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B596-2F83-4C18-A5A7-C717CE50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1A91-B07B-45F7-A6CF-F11E7714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6E6E-3F3D-4EC7-A1B3-D76DCF69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F9CA-57FB-46AC-9063-06A859F7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CB1B-07CE-41A7-9427-896D0708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260A-2745-446B-9712-CA3ABDFA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0E67-4933-41CB-B205-D9CF38E7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FC6D-8FCC-4526-A579-4C3BB217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0933-AE6A-4BEC-B69B-22310169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5D11-EF3F-411C-ADE7-4D25C091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695B-9F65-4C5B-AA6F-47BF85E9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0826-779F-46D4-A229-FC19932D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47D4-BF73-4887-B97B-B573F39EC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mallblueprinter.com/garden/planner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Object 1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2" name="WordArt 45"/>
          <p:cNvSpPr txBox="1"/>
          <p:nvPr/>
        </p:nvSpPr>
        <p:spPr>
          <a:xfrm>
            <a:off x="533520" y="1905120"/>
            <a:ext cx="80769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ccff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eaeaea">
                      <a:alpha val="0"/>
                    </a:srgbClr>
                  </a:outerShdw>
                </a:effectLst>
                <a:latin typeface="Times New Roman"/>
              </a:rPr>
              <a:t>Grădina mea de vis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ccff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eaeaea">
                    <a:alpha val="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Rectangle 46"/>
          <p:cNvSpPr/>
          <p:nvPr/>
        </p:nvSpPr>
        <p:spPr>
          <a:xfrm>
            <a:off x="380880" y="5577120"/>
            <a:ext cx="87631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n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i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 la premisa ca orice produs al naturii sau al artei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( frumosului în general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ste supus ordinii matemati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1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5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1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609480" y="457200"/>
            <a:ext cx="5257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Legume:R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ombul verdeţurilor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u diagonalele: 19m şi 9m (salată, mărar şi pătrunj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verdeat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= 1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5,5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o-RO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acă distanţa între plante este 25cm atunci recolta este 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,5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: 0.0625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68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p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legume"/>
          <p:cNvPicPr/>
          <p:nvPr/>
        </p:nvPicPr>
        <p:blipFill>
          <a:blip r:embed="rId2"/>
          <a:stretch/>
        </p:blipFill>
        <p:spPr>
          <a:xfrm>
            <a:off x="5715000" y="609480"/>
            <a:ext cx="3254400" cy="32767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7"/>
          <p:cNvSpPr/>
          <p:nvPr/>
        </p:nvSpPr>
        <p:spPr>
          <a:xfrm>
            <a:off x="228600" y="3124080"/>
            <a:ext cx="457200" cy="304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685800" y="2971800"/>
            <a:ext cx="457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Triunghiurile rădăcinoaselor- echilaterale cu baza de 10 m şi înălţimea de 8.5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radacinoas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=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(1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8,5) / 2=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85 m</a:t>
            </a:r>
            <a:r>
              <a:rPr b="1" lang="ro-RO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>
            <a:off x="228600" y="4495680"/>
            <a:ext cx="457200" cy="304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838080" y="4572000"/>
            <a:ext cx="7772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Rombul tomatelor are suprafaţa egală cu cel al verdeţur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tomat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5,5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o-RO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e unde obţine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,5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4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42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kg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tom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762120" y="5410080"/>
            <a:ext cx="81532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Triunghiurile diverselor legume sunt dreptunghice cu catetele de: 6m şi 9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divers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= 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9 / 2 =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7m</a:t>
            </a:r>
            <a:r>
              <a:rPr b="1" lang="ro-RO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că 2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2=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4m</a:t>
            </a:r>
            <a:r>
              <a:rPr b="1" lang="ro-RO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 legum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2"/>
          <p:cNvSpPr/>
          <p:nvPr/>
        </p:nvSpPr>
        <p:spPr>
          <a:xfrm>
            <a:off x="304920" y="5410080"/>
            <a:ext cx="457200" cy="304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152280" y="533520"/>
            <a:ext cx="457200" cy="3045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000"/>
                            </p:stCondLst>
                            <p:childTnLst>
                              <p:par>
                                <p:cTn id="4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8000"/>
                            </p:stCondLst>
                            <p:childTnLst>
                              <p:par>
                                <p:cTn id="4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6"/>
          <p:cNvSpPr/>
          <p:nvPr/>
        </p:nvSpPr>
        <p:spPr>
          <a:xfrm>
            <a:off x="228600" y="304920"/>
            <a:ext cx="457200" cy="3045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joaca"/>
          <p:cNvPicPr/>
          <p:nvPr/>
        </p:nvPicPr>
        <p:blipFill>
          <a:blip r:embed="rId2"/>
          <a:stretch/>
        </p:blipFill>
        <p:spPr>
          <a:xfrm>
            <a:off x="4753080" y="0"/>
            <a:ext cx="4390920" cy="4400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609480" y="228600"/>
            <a:ext cx="411480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Odihnă şi joac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Gaz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gazon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dr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- 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cas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-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garaj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- 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ale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-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teras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- 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flori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-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pis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gazon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= 3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33 – 180 – 21 - 28- 2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3 - 1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7 - 1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gazon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610 m</a:t>
            </a:r>
            <a:r>
              <a:rPr b="1" lang="ro-RO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609480" y="28195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piscin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= 1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5=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65 m</a:t>
            </a:r>
            <a:r>
              <a:rPr b="1" lang="ro-RO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609480" y="3200400"/>
            <a:ext cx="4114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Rombul rozelor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are diagonalele de 10m şi 6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roz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= 1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6 / 2 =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30 m</a:t>
            </a:r>
            <a:r>
              <a:rPr b="1" lang="ro-RO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609480" y="4267080"/>
            <a:ext cx="8305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fructe_legum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livad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vit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+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verdeat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+ 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radacinoas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+ 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tomat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divers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oz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= 253 + 128 +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171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+  85 +5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30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21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ro-RO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762120" y="51055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Suprafaţa cultivată reprezint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% din terenul disponib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Suprafaţa destinată sportului şi odihnei reprezintă 35,2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838080" y="5867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Grădina mult visată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este verde în procent de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2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4"/>
          <p:cNvSpPr/>
          <p:nvPr/>
        </p:nvSpPr>
        <p:spPr>
          <a:xfrm>
            <a:off x="304920" y="2895480"/>
            <a:ext cx="457200" cy="304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304920" y="3352680"/>
            <a:ext cx="457200" cy="304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6"/>
          <p:cNvSpPr/>
          <p:nvPr/>
        </p:nvSpPr>
        <p:spPr>
          <a:xfrm>
            <a:off x="304920" y="5181480"/>
            <a:ext cx="457200" cy="304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8000"/>
                            </p:stCondLst>
                            <p:childTnLst>
                              <p:par>
                                <p:cTn id="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3000"/>
                            </p:stCondLst>
                            <p:childTnLst>
                              <p:par>
                                <p:cTn id="5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8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1000"/>
                            </p:stCondLst>
                            <p:childTnLst>
                              <p:par>
                                <p:cTn id="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4000"/>
                            </p:stCondLst>
                            <p:childTnLst>
                              <p:par>
                                <p:cTn id="6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7000"/>
                            </p:stCondLst>
                            <p:childTnLst>
                              <p:par>
                                <p:cTn id="6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8056440" cy="43974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533520" y="3808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În faţă avem o figură plină de armonie şi echilibr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un tot bine proporţionat, ceva care-ţi face plăcere, fiindcă-i frumos, sănătos şi ut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457200" y="5715000"/>
            <a:ext cx="84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ceasta este “Grădina mea de vis” - 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loc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are mă ajută să trăiesc sănătos, să-mi refac relaţia cu na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000"/>
                            </p:stCondLst>
                            <p:childTnLst>
                              <p:par>
                                <p:cTn id="64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609480" y="2819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radina-online.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689040" y="32767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radinamea.r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88320" y="373392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ulteplante.r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64280" y="419112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eminte.d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914400" y="5335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Surse de inform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09480" y="1066680"/>
            <a:ext cx="7543800" cy="10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an Brânuei, Anton Negrilă şi Maria Negrilă – Mate 2000+10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urcitu G.,N.Ghiciu (2008)editura:Radical Matematica –manual clasa V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lorica T. Câmpan – Variate aplicaţii ale matematic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0"/>
          <p:cNvSpPr/>
          <p:nvPr/>
        </p:nvSpPr>
        <p:spPr>
          <a:xfrm>
            <a:off x="3886200" y="4648320"/>
            <a:ext cx="472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CHI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FAN MIRAB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ÂRBACEA MARIN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DU EMANU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ŞERBAN ANDREE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TIŞ MĂDĂ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OVASTRU SIMON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AT DANI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1"/>
          <p:cNvSpPr/>
          <p:nvPr/>
        </p:nvSpPr>
        <p:spPr>
          <a:xfrm>
            <a:off x="2971800" y="4800600"/>
            <a:ext cx="762120" cy="60948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1920" y="2437560"/>
            <a:ext cx="55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mallblueprinter.com/garden/planner.htm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500"/>
                            </p:stCondLst>
                            <p:childTnLst>
                              <p:par>
                                <p:cTn id="6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500"/>
                            </p:stCondLst>
                            <p:childTnLst>
                              <p:par>
                                <p:cTn id="7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7500"/>
                            </p:stCondLst>
                            <p:childTnLst>
                              <p:par>
                                <p:cTn id="7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9500"/>
                            </p:stCondLst>
                            <p:childTnLst>
                              <p:par>
                                <p:cTn id="7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1500"/>
                            </p:stCondLst>
                            <p:childTnLst>
                              <p:par>
                                <p:cTn id="7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3500"/>
                            </p:stCondLst>
                            <p:childTnLst>
                              <p:par>
                                <p:cTn id="7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5"/>
          <p:cNvSpPr txBox="1"/>
          <p:nvPr/>
        </p:nvSpPr>
        <p:spPr>
          <a:xfrm>
            <a:off x="914400" y="1676520"/>
            <a:ext cx="6781680" cy="18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e poate ajuta matematica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să creezi un colţ verde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838080" y="5028120"/>
            <a:ext cx="78487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0" lang="ro-RO" sz="2400" spc="-1" strike="noStrike">
                <a:solidFill>
                  <a:srgbClr val="0066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ul din succesele frumosului st</a:t>
            </a:r>
            <a:r>
              <a:rPr b="0" lang="ro-RO" sz="2400" spc="-1" strike="noStrike">
                <a:solidFill>
                  <a:srgbClr val="0066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66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 men</a:t>
            </a:r>
            <a:r>
              <a:rPr b="0" lang="ro-RO" sz="2400" spc="-1" strike="noStrike">
                <a:solidFill>
                  <a:srgbClr val="0066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erea </a:t>
            </a:r>
            <a:r>
              <a:rPr b="0" lang="ro-RO" sz="2400" spc="-1" strike="noStrike">
                <a:solidFill>
                  <a:srgbClr val="0066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preun</a:t>
            </a:r>
            <a:r>
              <a:rPr b="0" lang="ro-RO" sz="2400" spc="-1" strike="noStrike">
                <a:solidFill>
                  <a:srgbClr val="0066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a geometriei </a:t>
            </a:r>
            <a:r>
              <a:rPr b="0" lang="ro-RO" sz="2400" spc="-1" strike="noStrike">
                <a:solidFill>
                  <a:srgbClr val="0066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 a gra</a:t>
            </a:r>
            <a:r>
              <a:rPr b="0" lang="ro-RO" sz="2400" spc="-1" strike="noStrike">
                <a:solidFill>
                  <a:srgbClr val="0066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ei, a calitativului </a:t>
            </a:r>
            <a:r>
              <a:rPr b="0" lang="ro-RO" sz="2400" spc="-1" strike="noStrike">
                <a:solidFill>
                  <a:srgbClr val="0066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 cantitavului.</a:t>
            </a:r>
            <a:r>
              <a:rPr b="0" lang="ro-RO" sz="2400" spc="-1" strike="noStrike">
                <a:solidFill>
                  <a:srgbClr val="0066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1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5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1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533520" y="682920"/>
            <a:ext cx="533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Nouă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celor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e locui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mediul urban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onstrucţiile din beton, şoselele şi trotuarele ne-au invadat viaţ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rela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a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noastr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u natura este limitat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a experien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 pe care le avem doar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vacan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, departe de ora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609480" y="296964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Este nevoie ca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lul natural –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ro-RO" sz="2400" spc="-1" strike="noStrike">
                <a:solidFill>
                  <a:srgbClr val="006600"/>
                </a:solidFill>
                <a:latin typeface="Times New Roman"/>
              </a:rPr>
              <a:t>ă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</a:t>
            </a:r>
            <a:r>
              <a:rPr b="0" lang="ro-RO" sz="2400" spc="-1" strike="noStrike">
                <a:solidFill>
                  <a:srgbClr val="006600"/>
                </a:solidFill>
                <a:latin typeface="Times New Roman"/>
              </a:rPr>
              <a:t>â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t-plante-animale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s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vitalizat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cest lucru se poate face şi 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 curtea  din spatele case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685800" y="449352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6600"/>
                </a:solidFill>
                <a:latin typeface="Times New Roman"/>
              </a:rPr>
              <a:t>Astăzi ne vedem obligaţi să găsim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lternativele creative, prin care sa ne cre</a:t>
            </a:r>
            <a:r>
              <a:rPr b="0" lang="ro-RO" sz="2400" spc="-1" strike="noStrike">
                <a:solidFill>
                  <a:srgbClr val="006600"/>
                </a:solidFill>
                <a:latin typeface="Times New Roman"/>
              </a:rPr>
              <a:t>ş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em singuri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hrana s</a:t>
            </a:r>
            <a:r>
              <a:rPr b="1" lang="ro-RO" sz="2400" spc="-1" strike="noStrike">
                <a:solidFill>
                  <a:srgbClr val="006600"/>
                </a:solidFill>
                <a:latin typeface="Times New Roman"/>
              </a:rPr>
              <a:t>ă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1" lang="ro-RO" sz="2400" spc="-1" strike="noStrike">
                <a:solidFill>
                  <a:srgbClr val="006600"/>
                </a:solidFill>
                <a:latin typeface="Times New Roman"/>
              </a:rPr>
              <a:t>ă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oas</a:t>
            </a:r>
            <a:r>
              <a:rPr b="1" lang="ro-RO" sz="2400" spc="-1" strike="noStrike">
                <a:solidFill>
                  <a:srgbClr val="006600"/>
                </a:solidFill>
                <a:latin typeface="Times New Roman"/>
              </a:rPr>
              <a:t>ă.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anl3-Cta"/>
          <p:cNvPicPr/>
          <p:nvPr/>
        </p:nvPicPr>
        <p:blipFill>
          <a:blip r:embed="rId2"/>
          <a:stretch/>
        </p:blipFill>
        <p:spPr>
          <a:xfrm>
            <a:off x="5715000" y="762120"/>
            <a:ext cx="2819520" cy="2376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2025613970106669430S600x600Q85"/>
          <p:cNvPicPr/>
          <p:nvPr/>
        </p:nvPicPr>
        <p:blipFill>
          <a:blip r:embed="rId3"/>
          <a:stretch/>
        </p:blipFill>
        <p:spPr>
          <a:xfrm>
            <a:off x="5715000" y="3733920"/>
            <a:ext cx="2895480" cy="2228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casa"/>
          <p:cNvPicPr/>
          <p:nvPr/>
        </p:nvPicPr>
        <p:blipFill>
          <a:blip r:embed="rId4"/>
          <a:stretch/>
        </p:blipFill>
        <p:spPr>
          <a:xfrm>
            <a:off x="5715000" y="76212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55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2550"/>
                            </p:stCondLst>
                            <p:childTnLst>
                              <p:par>
                                <p:cTn id="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8600"/>
                            </p:stCondLst>
                            <p:childTnLst>
                              <p:par>
                                <p:cTn id="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5"/>
          <p:cNvSpPr txBox="1"/>
          <p:nvPr/>
        </p:nvSpPr>
        <p:spPr>
          <a:xfrm>
            <a:off x="2590920" y="914400"/>
            <a:ext cx="3962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DESPRE ARII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762120" y="228600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ria triunghiului: semiprodusul dintre bază şi înălţimea corespunzăto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6400800" y="1905120"/>
            <a:ext cx="1676520" cy="1523880"/>
          </a:xfrm>
          <a:prstGeom prst="triangle">
            <a:avLst>
              <a:gd name="adj" fmla="val 50000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7238880" y="1905120"/>
            <a:ext cx="0" cy="152388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685800" y="35812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2. Aria paralelogramului:produsul dintre bază şi înălţ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5638680" y="3886200"/>
            <a:ext cx="2667240" cy="533520"/>
          </a:xfrm>
          <a:prstGeom prst="parallelogram">
            <a:avLst>
              <a:gd name="adj" fmla="val 124983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6324480" y="3886200"/>
            <a:ext cx="0" cy="53352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762120" y="495288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3. Aria dreptunghiului: produsul dintre lungime şi lăţ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>
            <a:off x="6400800" y="3429000"/>
            <a:ext cx="167652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>
            <a:off x="5638680" y="4419720"/>
            <a:ext cx="205740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5486400" y="5105520"/>
            <a:ext cx="2743200" cy="83808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7"/>
          <p:cNvSpPr/>
          <p:nvPr/>
        </p:nvSpPr>
        <p:spPr>
          <a:xfrm>
            <a:off x="5486400" y="5105520"/>
            <a:ext cx="0" cy="83808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8"/>
          <p:cNvSpPr/>
          <p:nvPr/>
        </p:nvSpPr>
        <p:spPr>
          <a:xfrm>
            <a:off x="5486400" y="5943600"/>
            <a:ext cx="274320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1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5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1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4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40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1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5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1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84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340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1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5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1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84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4"/>
          <p:cNvSpPr txBox="1"/>
          <p:nvPr/>
        </p:nvSpPr>
        <p:spPr>
          <a:xfrm>
            <a:off x="3505320" y="609480"/>
            <a:ext cx="198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ARII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198108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4. Aria rombului: semiprodusul diagonalelor sau produsul bazei cu înălţim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5638680" y="1219320"/>
            <a:ext cx="990720" cy="1981080"/>
          </a:xfrm>
          <a:prstGeom prst="diamond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7238880" y="1143000"/>
            <a:ext cx="990720" cy="1981080"/>
          </a:xfrm>
          <a:prstGeom prst="diamond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6095880" y="1219320"/>
            <a:ext cx="0" cy="198108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5638680" y="2209680"/>
            <a:ext cx="99072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7238880" y="2133720"/>
            <a:ext cx="533520" cy="99036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 flipH="1">
            <a:off x="7467120" y="2133720"/>
            <a:ext cx="762120" cy="45720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533520" y="36576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5. Aria pătratului: pătratul laturii sau semiprodusul diagonale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5410080" y="3429000"/>
            <a:ext cx="1143000" cy="1066680"/>
          </a:xfrm>
          <a:prstGeom prst="rect">
            <a:avLst/>
          </a:prstGeom>
          <a:solidFill>
            <a:srgbClr val="003300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5410080" y="4495680"/>
            <a:ext cx="114300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7010280" y="3429000"/>
            <a:ext cx="1143000" cy="1066680"/>
          </a:xfrm>
          <a:prstGeom prst="rect">
            <a:avLst/>
          </a:prstGeom>
          <a:solidFill>
            <a:srgbClr val="003300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7010280" y="3429000"/>
            <a:ext cx="1143000" cy="106668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 flipH="1">
            <a:off x="7009920" y="3429000"/>
            <a:ext cx="1143000" cy="106668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685800" y="51814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6. Aria trapezului: semiprodusul dintre suma bazelor şi înălţ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9"/>
          <p:cNvSpPr/>
          <p:nvPr/>
        </p:nvSpPr>
        <p:spPr>
          <a:xfrm rot="10800000">
            <a:off x="5638680" y="5029200"/>
            <a:ext cx="2362320" cy="990720"/>
          </a:xfrm>
          <a:prstGeom prst="pie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6324480" y="5029200"/>
            <a:ext cx="0" cy="99072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5638680" y="6019920"/>
            <a:ext cx="236232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3"/>
          <p:cNvSpPr/>
          <p:nvPr/>
        </p:nvSpPr>
        <p:spPr>
          <a:xfrm>
            <a:off x="6324480" y="5029200"/>
            <a:ext cx="99072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1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5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1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1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5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1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1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5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1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0"/>
          <p:cNvGrpSpPr/>
          <p:nvPr/>
        </p:nvGrpSpPr>
        <p:grpSpPr>
          <a:xfrm>
            <a:off x="1828800" y="1676520"/>
            <a:ext cx="5486400" cy="3644640"/>
            <a:chOff x="1828800" y="1676520"/>
            <a:chExt cx="5486400" cy="3644640"/>
          </a:xfrm>
        </p:grpSpPr>
        <p:sp>
          <p:nvSpPr>
            <p:cNvPr id="85" name="AutoShape 5"/>
            <p:cNvSpPr/>
            <p:nvPr/>
          </p:nvSpPr>
          <p:spPr>
            <a:xfrm>
              <a:off x="2209680" y="1905120"/>
              <a:ext cx="4800600" cy="3047760"/>
            </a:xfrm>
            <a:prstGeom prst="octagon">
              <a:avLst>
                <a:gd name="adj" fmla="val 2928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1"/>
            <p:cNvSpPr/>
            <p:nvPr/>
          </p:nvSpPr>
          <p:spPr>
            <a:xfrm>
              <a:off x="1905120" y="40384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2"/>
            <p:cNvSpPr/>
            <p:nvPr/>
          </p:nvSpPr>
          <p:spPr>
            <a:xfrm>
              <a:off x="7010280" y="3962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3"/>
            <p:cNvSpPr/>
            <p:nvPr/>
          </p:nvSpPr>
          <p:spPr>
            <a:xfrm>
              <a:off x="6019920" y="48769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4"/>
            <p:cNvSpPr/>
            <p:nvPr/>
          </p:nvSpPr>
          <p:spPr>
            <a:xfrm>
              <a:off x="2895480" y="49528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5"/>
            <p:cNvSpPr/>
            <p:nvPr/>
          </p:nvSpPr>
          <p:spPr>
            <a:xfrm>
              <a:off x="1828800" y="26668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6"/>
            <p:cNvSpPr/>
            <p:nvPr/>
          </p:nvSpPr>
          <p:spPr>
            <a:xfrm>
              <a:off x="2895480" y="1676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7"/>
            <p:cNvSpPr/>
            <p:nvPr/>
          </p:nvSpPr>
          <p:spPr>
            <a:xfrm>
              <a:off x="6095880" y="1752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8"/>
            <p:cNvSpPr/>
            <p:nvPr/>
          </p:nvSpPr>
          <p:spPr>
            <a:xfrm>
              <a:off x="7010280" y="26668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WordArt 4"/>
          <p:cNvSpPr txBox="1"/>
          <p:nvPr/>
        </p:nvSpPr>
        <p:spPr>
          <a:xfrm>
            <a:off x="1981080" y="1143000"/>
            <a:ext cx="5410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Aria unei suprafeţe poligonal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>
            <a:off x="2209680" y="4038480"/>
            <a:ext cx="3886200" cy="91440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>
            <a:off x="2209680" y="4038480"/>
            <a:ext cx="4800600" cy="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 flipV="1">
            <a:off x="2209680" y="2819520"/>
            <a:ext cx="4800600" cy="121896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2209680" y="1905120"/>
            <a:ext cx="3886200" cy="213336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2209680" y="1905120"/>
            <a:ext cx="914400" cy="213336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457200" y="525780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ABCDEFGH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AB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AC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AD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AE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AF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A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1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5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1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6"/>
          <p:cNvSpPr/>
          <p:nvPr/>
        </p:nvSpPr>
        <p:spPr>
          <a:xfrm>
            <a:off x="685800" y="1066680"/>
            <a:ext cx="510552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Terenul are formă dreptunghiulară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=62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m şi l=33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e suprafaţă de teren av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teren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6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33 = 2046 m</a:t>
            </a:r>
            <a:r>
              <a:rPr b="0" lang="ro-RO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Pe teren se construieş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o casă dreptunghiular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L = 15m şi l= 1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cas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= 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l = 1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12=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180m</a:t>
            </a:r>
            <a:r>
              <a:rPr b="1" lang="ro-RO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un garaj: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L=7m şi l=3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garaj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= 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l= 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3 =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21m</a:t>
            </a:r>
            <a:r>
              <a:rPr b="1" lang="ro-RO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o alee: L= 7m şi l=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ale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= 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l=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4=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28m</a:t>
            </a:r>
            <a:r>
              <a:rPr b="1" lang="ro-RO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o-RO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plan"/>
          <p:cNvPicPr/>
          <p:nvPr/>
        </p:nvPicPr>
        <p:blipFill>
          <a:blip r:embed="rId2"/>
          <a:stretch/>
        </p:blipFill>
        <p:spPr>
          <a:xfrm>
            <a:off x="5867280" y="1143000"/>
            <a:ext cx="3044880" cy="52578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2590920" y="685800"/>
            <a:ext cx="3581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Grădina visată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WordArt 9"/>
          <p:cNvSpPr txBox="1"/>
          <p:nvPr/>
        </p:nvSpPr>
        <p:spPr>
          <a:xfrm>
            <a:off x="609480" y="6172200"/>
            <a:ext cx="51818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ce suprafaţă dispun pentru grădina visată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cover dir="r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9000"/>
                            </p:stCondLst>
                            <p:childTnLst>
                              <p:par>
                                <p:cTn id="2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762120" y="228600"/>
            <a:ext cx="7315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Times New Roman"/>
              </a:rPr>
              <a:t>gradina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Times New Roman"/>
              </a:rPr>
              <a:t>teren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Times New Roman"/>
              </a:rPr>
              <a:t>casa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Times New Roman"/>
              </a:rPr>
              <a:t>garaj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 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Times New Roman"/>
              </a:rPr>
              <a:t>ale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radi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046 – ( 180 + 21 + 28 )   = 2046 – 229 = 1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85800" y="1219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 de amenaj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 gr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ădin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5181480" y="1219320"/>
            <a:ext cx="609840" cy="4572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609480" y="1676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Trebuie sa împrejmuiesc terenul cu g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 viu plantat pe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două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rându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609480" y="21337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Grădina mea are o poartă de 7 m lungi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Puieţii se plantează la o distanţă de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20 cm.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Preţul unui răsad este de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0.99 R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sovenyult2"/>
          <p:cNvPicPr/>
          <p:nvPr/>
        </p:nvPicPr>
        <p:blipFill>
          <a:blip r:embed="rId2"/>
          <a:stretch/>
        </p:blipFill>
        <p:spPr>
          <a:xfrm>
            <a:off x="6019920" y="2286000"/>
            <a:ext cx="2819160" cy="1184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"/>
          <p:cNvSpPr/>
          <p:nvPr/>
        </p:nvSpPr>
        <p:spPr>
          <a:xfrm>
            <a:off x="304920" y="403848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ro-RO" sz="2400" spc="-1" strike="noStrike" baseline="-25000">
                <a:solidFill>
                  <a:srgbClr val="000000"/>
                </a:solidFill>
                <a:latin typeface="Times New Roman"/>
              </a:rPr>
              <a:t>teren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=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l - L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poart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= 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62 +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33 – 7 =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18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1"/>
          <p:cNvSpPr/>
          <p:nvPr/>
        </p:nvSpPr>
        <p:spPr>
          <a:xfrm>
            <a:off x="228600" y="1752480"/>
            <a:ext cx="457200" cy="304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533520" y="32004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are este necesarul de puieţ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are este bugetul de care avem nevoie pentru gardul viu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228600" y="4495680"/>
            <a:ext cx="746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Numar</a:t>
            </a:r>
            <a:r>
              <a:rPr b="1" lang="ro-RO" sz="2400" spc="-1" strike="noStrike" baseline="-25000">
                <a:solidFill>
                  <a:srgbClr val="000000"/>
                </a:solidFill>
                <a:latin typeface="Times New Roman"/>
              </a:rPr>
              <a:t>puieti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= ( 18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100) : 20 =36600 : 20 =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1830 bu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228600" y="49528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Cost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= (1830+5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0.99  =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1816.65 Ron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( 5 buc  rezerv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685800" y="54100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Să ne grăbim! Răsadul de gard viu se planteaz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în perioada noiembrie – mart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228600" y="5486400"/>
            <a:ext cx="457200" cy="304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8" descr="dscf4267"/>
          <p:cNvPicPr/>
          <p:nvPr/>
        </p:nvPicPr>
        <p:blipFill>
          <a:blip r:embed="rId3"/>
          <a:stretch/>
        </p:blipFill>
        <p:spPr>
          <a:xfrm>
            <a:off x="7461360" y="3809880"/>
            <a:ext cx="168264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1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5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1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7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7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57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0700"/>
                            </p:stCondLst>
                            <p:childTnLst>
                              <p:par>
                                <p:cTn id="35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2700"/>
                            </p:stCondLst>
                            <p:childTnLst>
                              <p:par>
                                <p:cTn id="3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4"/>
          <p:cNvSpPr/>
          <p:nvPr/>
        </p:nvSpPr>
        <p:spPr>
          <a:xfrm>
            <a:off x="228600" y="228600"/>
            <a:ext cx="457200" cy="304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838080" y="7621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3520" y="0"/>
            <a:ext cx="434340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Livad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riunghi dreptunghic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cu catetele de 22m şi 2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livad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/2 = 2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23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livad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253 m</a:t>
            </a:r>
            <a:r>
              <a:rPr b="1" lang="ro-RO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istanţa între pomi: 3,5 – 4,5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om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53:(4 ·4) = 15,81bu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mp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ărăm 18 bu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ost = 18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c 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n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414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33520" y="3048120"/>
            <a:ext cx="43434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Viţa de vi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: un triunghi dreptunghic şi un trapez dreptung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vit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= 1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8 / 2 + ( 15 + 6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8 /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vit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128 m</a:t>
            </a:r>
            <a:r>
              <a:rPr b="1" lang="ro-RO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fructe"/>
          <p:cNvPicPr/>
          <p:nvPr/>
        </p:nvPicPr>
        <p:blipFill>
          <a:blip r:embed="rId2"/>
          <a:stretch/>
        </p:blipFill>
        <p:spPr>
          <a:xfrm>
            <a:off x="4876920" y="304920"/>
            <a:ext cx="4060800" cy="4419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1"/>
          <p:cNvSpPr/>
          <p:nvPr/>
        </p:nvSpPr>
        <p:spPr>
          <a:xfrm>
            <a:off x="6934320" y="1905120"/>
            <a:ext cx="1066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57200" y="4876920"/>
            <a:ext cx="84582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istanţa între rânduri este de  2m şi între viţe 1,5m. Pentru un fir de viţă este nevoie de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1,5 = 3 m</a:t>
            </a:r>
            <a:r>
              <a:rPr b="0" lang="ro-RO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Număr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plant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= 128 : 3 = 42,66. Vom achiziţiona 50 fire de viţ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ost =5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12 =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00 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152280" y="3048120"/>
            <a:ext cx="457200" cy="3045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000"/>
                            </p:stCondLst>
                            <p:childTnLst>
                              <p:par>
                                <p:cTn id="3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9000"/>
                            </p:stCondLst>
                            <p:childTnLst>
                              <p:par>
                                <p:cTn id="4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20:21:06Z</dcterms:created>
  <dc:creator>maria</dc:creator>
  <dc:description/>
  <dc:language>en-US</dc:language>
  <cp:lastModifiedBy>maria</cp:lastModifiedBy>
  <dcterms:modified xsi:type="dcterms:W3CDTF">2011-02-15T18:17:35Z</dcterms:modified>
  <cp:revision>22</cp:revision>
  <dc:subject/>
  <dc:title>Slide 1</dc:title>
</cp:coreProperties>
</file>